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AC77-D76C-490C-BCA4-97FA81E262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B77-257A-495F-B199-5E4DE8C6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3E6-BA86-4106-8BE9-F170DD81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5BD-8D2F-4976-97ED-4074C6B8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54A-9CCB-431E-ABCE-180FA373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9379-8540-4080-AC04-F370E575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4984-A6A5-421C-B65C-F15601FF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16A4-8616-4BDE-9E5C-704ACF9D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37B2-F42A-40F9-BB73-2BF1AF08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7E80-8C65-4C93-A8B2-EE4B191E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0F7F-6A07-4865-A7D7-90A1171C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0890-1D7B-4910-9F8C-8900AD4C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D95-4B53-4A18-83AF-19431F0E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BF40-C0BC-4742-9E24-B582E555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B37-3EF1-4986-B3DD-997A1EE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2A96-1892-4AD0-84A5-273D2960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39D5-50ED-45D2-B504-7316CE7F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719A-4536-4736-BBD9-97CD910A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3C26-E6E0-48AC-A304-FDE2F7D2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B3B0-47C8-47B0-A81D-FB6C0042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FA7C-2892-4391-8E42-C6A9BA9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CA3A-D5A3-422F-B85A-6583F70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8E6E-6B77-4715-9C1D-5DC2FBFC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021-272E-4942-8C90-0DC340E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E641-1D60-458E-ABBB-C5F200FB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FBF7-6478-44BC-A355-53494CC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2E26C-4C13-4D9F-8C28-45D6C124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85AC-DDE6-4687-A39B-1FDC6F0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C977-7673-4EEB-A388-8B923FE2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C049-6906-4DCB-81A4-37009334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49E9-3696-41FF-9691-E1B11153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66EB-E888-4192-B500-249C5E59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9CB9-77DD-4FBA-8934-91F995B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AF26-D938-4DAC-AFFD-578E2C8D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1DB-3009-4E31-86BE-A465BF0B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0B60-5938-49D8-801D-A5B31C0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C8ECE-8F98-483E-8E41-3ADA56B6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A1B4-3403-470A-AA9D-9A4BCCC2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17FD-0454-4FCD-93AF-DF102F3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E3B95-CDA0-4087-9AFE-FC4DEBF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5942-7BBD-49CC-A6BE-3289256E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548E-6B90-48FA-873A-59286AB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78C3-8EB9-49B4-B21D-785FE861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82B1C-47EF-434C-BB11-CFC75B5A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7EA0C-9C37-471A-9CAC-D2461739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AFF-DEDD-4756-ACE1-883672DB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3E950-2F7E-45F5-BB55-D333D0B9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2EFC9-5323-4EF2-8344-3DA19FD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914C-EAFB-428A-8847-DC60C5F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7FD6-BAA0-4EFB-BC09-03ECB153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DC7DF-C9AE-4B9C-B93B-F77D37CA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3F0C-1157-4E25-9FA7-E2DCB4F0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A7E1-1CD0-4A62-8918-A3B33BF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435EA-C016-43E8-9877-F3286826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2F73F-2979-46E1-AB0B-93F4E6D0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ED0A-BC4B-48FD-8020-F5DE10DC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623-13B1-4630-9D13-7035F02C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B8C5-3F7E-4429-B705-BF75FDBE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6D61-6DBD-4277-81A8-5F48B84B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EE4A-68FC-4195-8BFE-95610FDA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4ACAB-75F7-4E1B-B571-F6247186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9CFE-1E28-4687-86D8-84F69188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5489-F581-4517-B5C0-010D1AB3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7CA5-F0D9-4197-9E11-5805C94F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A92CD-93F6-45B8-82F5-BCA1FB5C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BA6E-C2DF-49CC-9E82-A119ECC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95372-AD2F-45EA-9594-1602354F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3B3-340B-44D6-A05D-B8DDC028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76FD4-9C40-402C-A124-E2220D54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A5E9B-1448-41C0-AB90-B9A1F8A5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BF993-09B8-4420-8AF2-24C29CE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87BC7-860D-4444-AA41-AE371301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7ED1-4992-42C9-898A-40CE0D7A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DF5A9-E913-4FA2-9467-5A8BD439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4C4D-C6AD-46C0-B3A0-001E7758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CD3A2-3022-44D1-A347-43347EA7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49564-8E12-4AD4-8771-89C048B2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0ACDD-6314-4844-885D-D06E5075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625-0B58-4509-9AC5-20F193F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4166-E495-4153-B23E-1C9DB1E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941C-BACD-4786-967F-C5A9BCF0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8A80-6C55-45CB-88F7-2B293C4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4CE41-E730-49D0-AD7E-8FB340B4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13D7F-AD1A-4A5F-A7D9-AB559F5A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0BA-D057-481C-95CC-4F033CD0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A1B7-6CC8-43DA-9EB4-61D194919B5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18E-F9EF-4A49-A7F3-25F36BFD4F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2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C2C1-B120-4198-B38E-40915F8D87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1B3-E582-40BA-9EAF-3039BE5160E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BC6E-9788-48BF-BC40-9EC84319B50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7E25-696A-4F38-AFA8-4C616EE77EF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2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54B7-C628-4AF7-9E44-CFC30D84FB8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H:\Dinosaurs\tyrannos.jpg"/>
          <p:cNvPicPr/>
          <p:nvPr/>
        </p:nvPicPr>
        <p:blipFill>
          <a:blip r:embed="rId1"/>
          <a:stretch/>
        </p:blipFill>
        <p:spPr>
          <a:xfrm>
            <a:off x="2743200" y="1066680"/>
            <a:ext cx="6400800" cy="387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0" y="50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239280" y="7632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Dinosaurs\stegosaurus.jpg"/>
          <p:cNvPicPr/>
          <p:nvPr/>
        </p:nvPicPr>
        <p:blipFill>
          <a:blip r:embed="rId1"/>
          <a:stretch/>
        </p:blipFill>
        <p:spPr>
          <a:xfrm>
            <a:off x="2666880" y="9144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28600" y="4648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28600" y="4775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735000" y="152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orte"/>
              </a:rPr>
              <a:t>Stego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:\Dinosaurs\pterobig.gif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3962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457200" y="51055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251240" y="76320"/>
            <a:ext cx="32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terano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:\Dinosaurs\Velocira.gif"/>
          <p:cNvPicPr/>
          <p:nvPr/>
        </p:nvPicPr>
        <p:blipFill>
          <a:blip r:embed="rId1"/>
          <a:srcRect l="0" t="1536" r="4753" b="13408"/>
          <a:stretch/>
        </p:blipFill>
        <p:spPr>
          <a:xfrm>
            <a:off x="2666880" y="990720"/>
            <a:ext cx="6477120" cy="3448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609480" y="4619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746880" y="152280"/>
            <a:ext cx="33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Velocir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:\Dinosaurs\plesiosaurus_normal.jpg"/>
          <p:cNvPicPr/>
          <p:nvPr/>
        </p:nvPicPr>
        <p:blipFill>
          <a:blip r:embed="rId1"/>
          <a:srcRect l="5311" t="0" r="7965" b="0"/>
          <a:stretch/>
        </p:blipFill>
        <p:spPr>
          <a:xfrm>
            <a:off x="1676520" y="914400"/>
            <a:ext cx="7467480" cy="4027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914400" y="50292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3564360" y="7632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lesiosau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8:56:08Z</dcterms:created>
  <dc:creator>Spring Cove School District</dc:creator>
  <dc:description/>
  <dc:language>en-US</dc:language>
  <cp:lastModifiedBy>LEGION</cp:lastModifiedBy>
  <dcterms:modified xsi:type="dcterms:W3CDTF">2018-03-12T09:05:55Z</dcterms:modified>
  <cp:revision>24</cp:revision>
  <dc:subject/>
  <dc:title>PowerPoint Presentation</dc:title>
</cp:coreProperties>
</file>